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3C2-1C51-4D64-B0D1-B723EA8A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C15-B689-4669-8104-B47B9DA9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9DA-1FCA-42A4-9493-2C823522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F81-C9D0-4C88-BE87-437ECF3B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8A4-C1D7-4CD9-B891-298EEC91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234-BFDE-46EA-891A-65A05A5B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CE7-90F1-4F03-8BF3-16C0145D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137-CFE9-4532-B8EB-B4E93EE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78D-26E0-45BC-9566-415188FC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8BA-1D68-4B7D-ADC9-B6EC419C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575-470E-4B42-9173-341FF103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DD6-E5BB-4F5B-8B46-95857914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458-D48B-4CE8-9BAF-0B6C58A5B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ll of the 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762120" y="1523880"/>
            <a:ext cx="7619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pid expansion of the R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p between the rich and poor g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10552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eedy, dishonest lead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0552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or felt no loyalty to the Roman government who was keeping them po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265752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3429000" y="2714760"/>
            <a:ext cx="3440160" cy="414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poor felt no loyalty to the Roman government who was keeping them po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2520" y="228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s between rich and poor people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971800" y="2219400"/>
            <a:ext cx="2832120" cy="4638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fessional soldiers who were poor citizens and only made money if they won a battl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5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diers only loyal to the generals who pai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wer hungry generals fight one another for control of gover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esar’s rivals fear he is becoming too powerful and declare him a public en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905120" y="34290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esar crosses the Rubicon River and brings his army with him to Rom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67280" y="609480"/>
            <a:ext cx="289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War breaks out for thre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71800" y="2143080"/>
            <a:ext cx="3146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esar defeats Pompey and declares himself dictato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15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nds the Republican system of government in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8:15:31Z</dcterms:created>
  <dc:creator>gehadde</dc:creator>
  <dc:description/>
  <dc:language>en-US</dc:language>
  <cp:lastModifiedBy>gehadde</cp:lastModifiedBy>
  <dcterms:modified xsi:type="dcterms:W3CDTF">2012-06-04T13:12:50Z</dcterms:modified>
  <cp:revision>29</cp:revision>
  <dc:subject/>
  <dc:title>WARM-UP:  #7</dc:title>
</cp:coreProperties>
</file>